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8.png" ContentType="image/png"/>
  <Override PartName="/ppt/media/image7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A3F2-FD16-4D25-B731-82E61682F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37124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9320" y="387864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49E4-FB3E-4B8D-B9C8-E63BC78B0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9320" y="1371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02000" y="1371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9320" y="38786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02000" y="38786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FFB6-A29B-4D9E-A2A0-314337D3A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13712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47320" y="13712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74960" y="13712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9320" y="38786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47320" y="38786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74960" y="38786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A11A-638A-4EE8-937D-8D85307AD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B4ECA-52F6-4478-9692-057D7230E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932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AA9F5-2906-448B-8A43-F5941AEBF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4C7D7-C849-49D0-B0F5-DEF3896C7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37124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02000" y="137124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49C47-1204-4A94-A052-EAFAD4F5C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DD8E5-52B5-48A8-A78A-9EDFC8CE2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932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8C917-0E01-4376-9525-BEC0353B2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1371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02000" y="137124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9320" y="38786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AF5C0-A0EC-4EFB-AB6A-7EA5AE22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932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7261-C794-4410-80DD-4C2919316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137124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02000" y="1371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02000" y="38786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54A89-3205-4206-BF88-4DBC3174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371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371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87864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BA217-E870-4ACE-9980-5851CC24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37124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9320" y="387864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66D55-C552-4BF0-B7FC-F1CBD461B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371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02000" y="1371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38786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02000" y="38786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583FC-9F43-4336-80B8-3B5407A98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3712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47320" y="13712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74960" y="13712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9320" y="38786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47320" y="38786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74960" y="38786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7A3ED-79D6-405F-890D-F470B6B46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932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F96B-BB37-451E-9EDD-65FF23B4F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9320" y="137124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02000" y="137124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BFC9-9DEE-46BC-96DD-1E90E263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B6CA-93CC-4A31-B059-716B35C4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932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F0BB-95D8-4C76-90A7-64457E160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9320" y="1371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02000" y="137124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9320" y="38786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9900-D51A-4622-931A-F3B1F26D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37124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371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02000" y="38786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46BC-2E8C-4FC9-BAED-C16B46B8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371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371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9320" y="387864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F4B7-C296-40BC-8C14-D9F89E17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949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9540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34555-27D5-4D47-BE90-C8BF15DADB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932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2949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69540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6AECA-BC81-4898-BEA5-5D901B704B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69644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EDICAL ACADE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1640" y="2286000"/>
            <a:ext cx="441972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tradition of excellence since 199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o we off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21932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ll health science progra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cal Skills and Services (9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lth Science 1 (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lth Science 2 (1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Responder (1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ecutive Internship (1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1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grated curricul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nerships that allow real life experiences in health care at BFMC and NSB and Edgewater fire depar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10" descr="Dr. Cuda.JPG"/>
          <p:cNvPicPr/>
          <p:nvPr/>
        </p:nvPicPr>
        <p:blipFill>
          <a:blip r:embed="rId1"/>
          <a:stretch/>
        </p:blipFill>
        <p:spPr>
          <a:xfrm>
            <a:off x="6553080" y="152280"/>
            <a:ext cx="2590920" cy="3353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hosa_logo_1.JPG"/>
          <p:cNvPicPr/>
          <p:nvPr/>
        </p:nvPicPr>
        <p:blipFill>
          <a:blip r:embed="rId2"/>
          <a:stretch/>
        </p:blipFill>
        <p:spPr>
          <a:xfrm>
            <a:off x="6019920" y="5562720"/>
            <a:ext cx="1447560" cy="912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hosa_logo_2.gif"/>
          <p:cNvPicPr/>
          <p:nvPr/>
        </p:nvPicPr>
        <p:blipFill>
          <a:blip r:embed="rId3"/>
          <a:stretch/>
        </p:blipFill>
        <p:spPr>
          <a:xfrm>
            <a:off x="7620120" y="5181480"/>
            <a:ext cx="1371600" cy="140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kind of students do we hav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21932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kind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nors/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mbers of all clubs, sports on camp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nd, Showdolls, drama, art, SGA, class offic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3" descr="DSC03566.JPG"/>
          <p:cNvPicPr/>
          <p:nvPr/>
        </p:nvPicPr>
        <p:blipFill>
          <a:blip r:embed="rId1"/>
          <a:stretch/>
        </p:blipFill>
        <p:spPr>
          <a:xfrm>
            <a:off x="5410080" y="13716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DSC02936.JPG"/>
          <p:cNvPicPr/>
          <p:nvPr/>
        </p:nvPicPr>
        <p:blipFill>
          <a:blip r:embed="rId2"/>
          <a:stretch/>
        </p:blipFill>
        <p:spPr>
          <a:xfrm>
            <a:off x="5715000" y="449568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DSC02915.JPG"/>
          <p:cNvPicPr/>
          <p:nvPr/>
        </p:nvPicPr>
        <p:blipFill>
          <a:blip r:embed="rId3"/>
          <a:stretch/>
        </p:blipFill>
        <p:spPr>
          <a:xfrm>
            <a:off x="2844720" y="4648320"/>
            <a:ext cx="2718000" cy="2038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iti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21932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ege field tr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ic health career related ev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dowing opportun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rt Fish Medical Cen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SB and Edgewater Firefighter/Paramed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vidual internshi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cal Exami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cal Reserve Corp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uest speak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rterly Aw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3" descr="DSC03500.JPG"/>
          <p:cNvPicPr/>
          <p:nvPr/>
        </p:nvPicPr>
        <p:blipFill>
          <a:blip r:embed="rId1"/>
          <a:stretch/>
        </p:blipFill>
        <p:spPr>
          <a:xfrm>
            <a:off x="6781680" y="152280"/>
            <a:ext cx="2159280" cy="1619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DSC03505.JPG"/>
          <p:cNvPicPr/>
          <p:nvPr/>
        </p:nvPicPr>
        <p:blipFill>
          <a:blip r:embed="rId2"/>
          <a:stretch/>
        </p:blipFill>
        <p:spPr>
          <a:xfrm>
            <a:off x="4673520" y="228600"/>
            <a:ext cx="1930320" cy="1447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DSC03477.JPG"/>
          <p:cNvPicPr/>
          <p:nvPr/>
        </p:nvPicPr>
        <p:blipFill>
          <a:blip r:embed="rId3"/>
          <a:stretch/>
        </p:blipFill>
        <p:spPr>
          <a:xfrm>
            <a:off x="6629400" y="2362320"/>
            <a:ext cx="1981080" cy="1485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Medical Reserve Corps Logo"/>
          <p:cNvPicPr/>
          <p:nvPr/>
        </p:nvPicPr>
        <p:blipFill>
          <a:blip r:embed="rId4"/>
          <a:stretch/>
        </p:blipFill>
        <p:spPr>
          <a:xfrm>
            <a:off x="6629400" y="3886200"/>
            <a:ext cx="2057400" cy="1447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022.JPG"/>
          <p:cNvPicPr/>
          <p:nvPr/>
        </p:nvPicPr>
        <p:blipFill>
          <a:blip r:embed="rId5"/>
          <a:stretch/>
        </p:blipFill>
        <p:spPr>
          <a:xfrm>
            <a:off x="4800600" y="5105520"/>
            <a:ext cx="2031840" cy="1523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100_0832.JPG"/>
          <p:cNvPicPr/>
          <p:nvPr/>
        </p:nvPicPr>
        <p:blipFill>
          <a:blip r:embed="rId6"/>
          <a:stretch/>
        </p:blipFill>
        <p:spPr>
          <a:xfrm>
            <a:off x="6934320" y="5334120"/>
            <a:ext cx="1706400" cy="1279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6668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 Occupations Students of Ame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-curricular organ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 Opportun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l, Regional, State and National leadership opportun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ional, State and National compet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vel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3" descr="DSC03449.JPG"/>
          <p:cNvPicPr/>
          <p:nvPr/>
        </p:nvPicPr>
        <p:blipFill>
          <a:blip r:embed="rId1"/>
          <a:stretch/>
        </p:blipFill>
        <p:spPr>
          <a:xfrm>
            <a:off x="6400800" y="464832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032.JPG"/>
          <p:cNvPicPr/>
          <p:nvPr/>
        </p:nvPicPr>
        <p:blipFill>
          <a:blip r:embed="rId2"/>
          <a:stretch/>
        </p:blipFill>
        <p:spPr>
          <a:xfrm>
            <a:off x="0" y="464832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100_0819.JPG"/>
          <p:cNvPicPr/>
          <p:nvPr/>
        </p:nvPicPr>
        <p:blipFill>
          <a:blip r:embed="rId3"/>
          <a:stretch/>
        </p:blipFill>
        <p:spPr>
          <a:xfrm>
            <a:off x="3200400" y="4572000"/>
            <a:ext cx="2819520" cy="2114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19320" y="1371240"/>
            <a:ext cx="7772400" cy="4800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1T19:42:40Z</dcterms:created>
  <dc:creator>jkheifne</dc:creator>
  <dc:description/>
  <dc:language>en-US</dc:language>
  <cp:lastModifiedBy>jkheifne</cp:lastModifiedBy>
  <dcterms:modified xsi:type="dcterms:W3CDTF">2010-12-06T17:54:13Z</dcterms:modified>
  <cp:revision>16</cp:revision>
  <dc:subject/>
  <dc:title>THE MEDICAL ACADEMY</dc:title>
</cp:coreProperties>
</file>